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D ACADEMIC STUDIES OF MEDICINE</a:t>
            </a:r>
            <a:endParaRPr b="0" lang="en-US" sz="24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 Englis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cturer: Dusica Obradov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We Digest Food?</a:t>
            </a:r>
            <a:endParaRPr b="0" lang="en-US" sz="24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gestive system is a series of hollow organs joined in a long, twisting tube from the mouth to the anus. Inside this tube is a lining called the mucosa. In the mouth, stomach, and small intestine, the mucosa contains tiny glands that produce juices to help digest food. There are also two solid digestive organs, the liver and the pancreas, which produce juices that reach the intestine through small tubes. In addition, parts of other organ systems (for instance, nerves and blood) play a major role in the digestive system.</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urpose of the digestive system is to break down, or digest, the food we eat. Food is made up of large, complex molecules, which the digestive system breaks down into smaller, simple molecules that can be absorbed into the bloodstream...........</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cos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es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sti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stals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solv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the digestive system consist of?</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function of the mucos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purpose of the digestive syst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two phases are involved in the process of diges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ppens in the chemical ph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process of diges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mechanical tasks must the stomach d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peristals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factors affect emptying of the stomac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are the digested nutrients absorbed?</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ggest antonyms for each of the following words:</a:t>
            </a:r>
            <a:endParaRPr b="0" lang="en-US" sz="2400" spc="-1" strike="noStrike">
              <a:solidFill>
                <a:srgbClr val="000000"/>
              </a:solidFill>
              <a:latin typeface="Arial"/>
            </a:endParaRPr>
          </a:p>
        </p:txBody>
      </p:sp>
      <p:sp>
        <p:nvSpPr>
          <p:cNvPr id="48" name=""/>
          <p:cNvSpPr txBox="1"/>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n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i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j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iel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ggest synonyms for each of the following words:</a:t>
            </a:r>
            <a:endParaRPr b="0" lang="en-US" sz="2400" spc="-1" strike="noStrike">
              <a:solidFill>
                <a:srgbClr val="000000"/>
              </a:solidFill>
              <a:latin typeface="Arial"/>
            </a:endParaRPr>
          </a:p>
        </p:txBody>
      </p:sp>
      <p:sp>
        <p:nvSpPr>
          <p:cNvPr id="50" name=""/>
          <p:cNvSpPr txBox="1"/>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llow</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ist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es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allow</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t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fec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x</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 phrasal verbs in column A with the corresponding meaning in column B:</a:t>
            </a:r>
            <a:endParaRPr b="0" lang="en-US" sz="2400" spc="-1" strike="noStrike">
              <a:solidFill>
                <a:srgbClr val="000000"/>
              </a:solidFill>
              <a:latin typeface="Arial"/>
            </a:endParaRPr>
          </a:p>
        </p:txBody>
      </p:sp>
      <p:sp>
        <p:nvSpPr>
          <p:cNvPr id="52" name=""/>
          <p:cNvSpPr txBox="1"/>
          <p:nvPr/>
        </p:nvSpPr>
        <p:spPr>
          <a:xfrm>
            <a:off x="457200" y="2287080"/>
            <a:ext cx="8229600" cy="45262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B</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ring on                                         to regain consciousnes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ring round                                    to cause to suffer anxiety and pai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ring through                                 to begin suddenly</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ring up                                         to suffer poor health</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reak down                                    to cause an illnes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reak out                                       to save life of someone very ill</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reak of                                         to be sick; vomi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reak up                                        to cure someone of a bad habi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the following sentences with a phrasal verb from the list above:</a:t>
            </a:r>
            <a:endParaRPr b="0" lang="en-US" sz="2400" spc="-1" strike="noStrike">
              <a:solidFill>
                <a:srgbClr val="000000"/>
              </a:solidFill>
              <a:latin typeface="Arial"/>
            </a:endParaRPr>
          </a:p>
        </p:txBody>
      </p:sp>
      <p:sp>
        <p:nvSpPr>
          <p:cNvPr id="54" name=""/>
          <p:cNvSpPr txBox="1"/>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tors keep trying to......................his dependence on the dru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pidemic of flu...........................two months ag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his mother was seriously ill, the doctors succeeded t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e can’t come, she’s been.............................all morn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an may...........................under that trou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ter has fainted, try t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health will................................if you work too har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udden cold weather.........................his fever again.</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king points:</a:t>
            </a:r>
            <a:endParaRPr b="0" lang="en-US" sz="2400" spc="-1" strike="noStrike">
              <a:solidFill>
                <a:srgbClr val="000000"/>
              </a:solidFill>
              <a:latin typeface="Arial"/>
            </a:endParaRPr>
          </a:p>
        </p:txBody>
      </p:sp>
      <p:sp>
        <p:nvSpPr>
          <p:cNvPr id="56" name=""/>
          <p:cNvSpPr txBox="1"/>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process of diges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digestive disord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23-09-11T21:42:06Z</dcterms:modified>
  <cp:revision>34</cp:revision>
  <dc:subject/>
  <dc:title>Slide 1</dc:title>
</cp:coreProperties>
</file>